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172-3B43-4055-84D4-EBC7E8AD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9CE-56A8-4C96-8E97-1860380B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680-F920-42AA-8B60-CE5C857A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4EC-554A-4A0B-8563-75553544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475-88F2-4D59-B29F-7DEC5DA1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4C9-20B2-442C-96E7-7B063DD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2DD0-B4A8-4849-AB46-667351E7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188F-7706-4136-909E-4D8E9B7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9D2E-D4B7-4DA4-9D41-6D5D6B35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604D-2740-40D6-BD86-A029E2B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FEB5-4EA2-4660-97EA-A40416D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CCD-6F6E-47FC-A65E-FA5A05F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94F-4475-4202-9E69-0BEAC877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C32A-EA60-491D-AA9C-C9A866B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BC4-D52C-4FFE-8D57-3A858375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E39-A303-463E-8681-42F655A2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07AB-7C0A-45F5-BB13-A86D80DF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013-16FE-42C8-8103-A8628231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D2C-D660-4661-B4C9-982B7AB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D94-C901-41DC-AF58-9A381E97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3F1-A24A-44EB-8AF7-7FBEE328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8B3-649D-446D-A4DF-A51C738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04E-39BE-47D7-95FE-8ECB676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524-5447-4883-9F4A-7A499879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1FA5-7AD8-4023-AE61-C8D0D7769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EFD-2146-4C1B-B5BF-E9C12105F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emsoc.org/viselements/pages/data/phosphorus_data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o.miami.edu/dana/%20160/phosphoruscycle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P/key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hemicalelements.com/elements/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%2C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emsoc.org/viselements/hires/phosphorus_2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hosphorus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ta B Yoo, Devin Kim, Drew Li, Justin Yun, Raymond Ki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Phosphorus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te phosphorus has two modificat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rdinary phosphorus is waxy white soli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pure it is colorless and transparen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re phosphorus is insoluble in water but soluble in carbon disulph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tches fire spontaneously in ai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ry poison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er found in free n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ingredient of all cell protoplasm, nervous tissue, and b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commonly found as phosph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of DNA materials and energy distrib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 of Phospho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make waterproof matches, pyrotechnics, smoke screens, tracer bullets, and incendiary she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fertiliz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produce special glasses, for example sodium lam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s,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ium Phosphate is used to create fine Chinawar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calcium Phosphate used to make baking powde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making steel, and Phosphor Bronz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95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as a cleaning agent, water softener, and also prevents corrosion in pip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zards and Ris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rely tox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form is more toxic than red 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onic poisoning leads to necrosis of jaw (phossy-jaw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pollution comes from detergents, insecticides, and fertiliz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organic phosphorus is harml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hosphorus cycle does not have a gas phase, but small amounts of phosphoric acid rise into the atmosphere, contributing to acidic precipitation.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ater, carbon, and sulfur cycles all include at least one phase in which the element is in its gaseous state. The largest reservoir of phosphorus is in sedimentary roc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_data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762120"/>
            <a:ext cx="60958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hosphoruscycl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19040" y="571680"/>
            <a:ext cx="65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element of lif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orus is a Group 15 (5A) el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bol: 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number: 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omic mass: 30.97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: colorless/ red/ silvery wh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st of the cy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rus has only one form – phosph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ways part of an organism, dissolved in water, or in the form of roc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 enters environment from rocks or depos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atite is the phosphate rock where phosphate is availa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thering and erosion releases phosphate ions that are soluble in 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hos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056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then acts as fertilizers or nutrients for land pla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gets incorporated into molecules essential for life like ATP, adenosine triphosphate – this is important in storage and use of ener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is in backbone of DNA and R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imals and plants die, phosphates will return to the soils or oceans again during dec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 cycles through plants and animals much faster than it does through rocks and sediments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t of phosphate goes into the water from erosion and lea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plants use this phosphate as nutri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is the limiting agent in growth of plants and alga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re is a lack of phosphate, plants grow slowly or are stun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oo much, excess growth may occ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in water is precipitated from water as ion phosphate (insolub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osphate in shallow sediment may be recycled into w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deep sediment in water, it is available as part of as part of rock formations for cycle to rep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that, phosphorus will end up in sediments or rock formations again, remaining there for millions of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ually, phosphorus is released again through weathering and the cycle starts ov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hosphatenat" descr=""/>
          <p:cNvPicPr/>
          <p:nvPr/>
        </p:nvPicPr>
        <p:blipFill>
          <a:blip r:embed="rId1"/>
          <a:stretch/>
        </p:blipFill>
        <p:spPr>
          <a:xfrm>
            <a:off x="1314360" y="1314360"/>
            <a:ext cx="6515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nme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nsity: 1823 kg/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omic radius: 100 p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lting Point: 317.3 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iling Point: 550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hosphateag" descr=""/>
          <p:cNvPicPr/>
          <p:nvPr/>
        </p:nvPicPr>
        <p:blipFill>
          <a:blip r:embed="rId1"/>
          <a:stretch/>
        </p:blipFill>
        <p:spPr>
          <a:xfrm>
            <a:off x="1314360" y="1314360"/>
            <a:ext cx="6515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 Influences on Cyc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influences on phosphate cycle mostly comes from introduction &amp; use of commercial synthetic fertiliz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obtained by mining at certain deposits of calcium phosphate called apatit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ate rock and sulfuric acid are combined to make a fertilizer called “super phosphate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re are many negative effects of using this fertiliz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t of the fertilizer is lost through the water run-off because plants aren’t able to use up all of 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ventually the wasted phosphate in the water is precipitated as it settles at the bottom of the body of wat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luences 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some lakes &amp; ponds the phosphate can be recycled as a problem nutrie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ther sources of phosphate are in out flows from local sewage treatment plans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572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s8" descr=""/>
          <p:cNvPicPr/>
          <p:nvPr/>
        </p:nvPicPr>
        <p:blipFill>
          <a:blip r:embed="rId3"/>
          <a:stretch/>
        </p:blipFill>
        <p:spPr>
          <a:xfrm>
            <a:off x="5334120" y="2895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, phosphorus was extracted from urin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energy intens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r.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phosphoro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 meaning “light bearer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s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1669, German alchemist Henning Brand discovered phosphorus from a preparation from ur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nly correct spelling of the element i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ere does exist a wor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rou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t it is the adjectival form for the smaller valenc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hosphorus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37922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trient Cycling in Ecosystems.” http://home.earthlink.net/~dayvdanls/ecosys4.htm 17 September 20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sphorus.” http://pearl1.lanl.gov/periodic/elements/15.html 17 September 200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ey ingredient to plant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fertiliz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nature, Phosphorus exists in form of Phosph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bliography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b-Elements.” http://www.webelements.com/webelements/elements/text/P/key.html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ttp://en.wikipedia.org/wiki/Phosphorus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tual Chembook.” http://www.elmhurst.edu/~chm/vchembook/308phosphorus.html 17 September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sic Chemistry,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s of rocks containing phosphate are fluoroapatite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F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chloroapaptite,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Cl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and hydroxyapatite (3Ca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(OH)</a:t>
            </a:r>
            <a:r>
              <a:rPr b="0" lang="en-US" sz="4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789280" y="2039760"/>
            <a:ext cx="3567240" cy="2712960"/>
            <a:chOff x="2789280" y="2039760"/>
            <a:chExt cx="3567240" cy="2712960"/>
          </a:xfrm>
        </p:grpSpPr>
        <p:sp>
          <p:nvSpPr>
            <p:cNvPr id="103" name=""/>
            <p:cNvSpPr/>
            <p:nvPr/>
          </p:nvSpPr>
          <p:spPr>
            <a:xfrm>
              <a:off x="2789280" y="2039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89280" y="2039760"/>
              <a:ext cx="356724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7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5" name="b0015" descr="[Bohr Model of Phosphorus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838080"/>
            <a:ext cx="48769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cription of Phosphor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common form of phosphorus is red and whi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are tetrahedral groups of four ato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phosphorus burns on contact with air and can change into red phosphorus when exposed to light or he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%2C1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46280"/>
            <a:ext cx="6858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hosphorus_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38240" y="7952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08:12Z</dcterms:created>
  <dc:creator>745</dc:creator>
  <dc:description/>
  <dc:language>en-US</dc:language>
  <cp:lastModifiedBy>Danny Kim</cp:lastModifiedBy>
  <dcterms:modified xsi:type="dcterms:W3CDTF">2004-09-19T03:46:39Z</dcterms:modified>
  <cp:revision>25</cp:revision>
  <dc:subject/>
  <dc:title>The Phosphorus Cycle</dc:title>
</cp:coreProperties>
</file>